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VOLO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0B3-B63A-422F-9F2A-E60FA69F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498-38DC-4649-BDC5-5230EB88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94F-9F32-4D9D-974F-B4D3A8EF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A29-B1FD-4EBA-8DA7-193D62DD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4DD-1783-4F57-AF80-B576F20F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433-2ACC-468D-90B1-F03B3F01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99A-4B08-419A-8B15-116482BC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A6B-CE3D-4753-A8DF-539A88C8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D31-B2D1-4A72-8E1D-6D92417D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801-6683-4372-AAD2-D9E46315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A99-0A32-4833-9532-7212EA96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6ED-94E5-4E62-B69F-6FD9229A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F158-5E1D-468A-A62E-9D28BB9DF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file:///IPERTESTO%20FINALE.PPT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slide" Target="slide1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VOLO.WAV"/><Relationship Id="rId5" Type="http://schemas.openxmlformats.org/officeDocument/2006/relationships/audio" Target="../media/VOLO.WAV"/><Relationship Id="rId6" Type="http://schemas.openxmlformats.org/officeDocument/2006/relationships/audio" Target="../media/VOLO.WAV"/><Relationship Id="rId7" Type="http://schemas.openxmlformats.org/officeDocument/2006/relationships/audio" Target="../media/VOLO.WAV"/><Relationship Id="rId8" Type="http://schemas.openxmlformats.org/officeDocument/2006/relationships/audio" Target="../media/VOLO.WAV"/><Relationship Id="rId9" Type="http://schemas.openxmlformats.org/officeDocument/2006/relationships/audio" Target="../media/VOLO.WAV"/><Relationship Id="rId10" Type="http://schemas.openxmlformats.org/officeDocument/2006/relationships/audio" Target="../media/VOLO.WAV"/><Relationship Id="rId11" Type="http://schemas.openxmlformats.org/officeDocument/2006/relationships/audio" Target="../media/VOLO.WAV"/><Relationship Id="rId12" Type="http://schemas.openxmlformats.org/officeDocument/2006/relationships/audio" Target="../media/VOLO.WAV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4572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ITIS G. FERRARI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44" name="">
            <a:hlinkClick r:id="rId4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524640"/>
            <a:ext cx="432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14600" y="2133720"/>
            <a:ext cx="588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Beesknees ITC"/>
              </a:rPr>
              <a:t>INTRODUZIONE AL SUONO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Beesknees ITC"/>
              <a:ea typeface="Beesknees ITC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84360" y="3162240"/>
            <a:ext cx="588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GLI ALTOPARLANTI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14600" y="4191120"/>
            <a:ext cx="588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PROGETTAZIONE DEI BOX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4600" y="5219640"/>
            <a:ext cx="588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LE FOTO DEL PROGETTO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114800"/>
            <a:ext cx="1600200" cy="1922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rettore di progetto: 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Prof. Romano Giusep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14600" y="204804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frequenza è definita come il numero di oscillazioni complete compiute nell’unità di tempo. La frequenza di suono corrisponde al numero di vibrazioni al secondo dell’aria emesse dal generatore di suoni. I suoni a frequenza bassa sono detti gravi mentre quelli a frequenza alta sono detti acuti. Le onde con frequenza inferiore a 20Hz sono dette subsoniche, quelle superiori a 20KHz sono dette ultrasu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3000" y="4572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FREQUENZ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09680" y="1752480"/>
            <a:ext cx="6629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 woofers, i midrange ed i tweeters,presenti nella maggior parte dei diffusori, sono basati sullo stesso principio fondamentale: un diaframma messo in azione dal movimento meccanico di un campo elettromagnetico modulante, posto all’interno di un campo magnetico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(VEDI FIGURA 0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Applicando corrente alla bobina, si produce un campo elettro magnetico in direzione perpendicolare al flusso della corrente e alla direzione del campo magnetico permanente. La forza meccanica risultante fa si che il cono o il diaframma a cupola si muova perpendicolarmente al campo e metta in movimento l’aria da entrambi i lati del diafram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==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458200" y="652788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4572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OME FUNZIONA UN ALTOPARLANT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14600" y="1981080"/>
            <a:ext cx="6400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Nel suo funzionamento operano tre distinti ma intercorrelati siste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l sistema motore: composto da magnete,elemento polare,lamina   frontale/apertura, e bob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l diaframma: di solito un cono con cappuccio, o una cupola in un solo pezz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l sistema di sospensione: composto dal supporto e dagli elementi adiace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==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43000" y="4572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OME FUNZIONA UN ALTOPARLANT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458200" y="652788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09680" y="170172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li altoparlanti sono apparecchi che trasformano i segnali elettrici in onde sonore tramite lo spostamento in avanti e all’indietro di una membrana fissata sul loro ceste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ando la membrana si sposta in avanti comprime frontalmente le molecole dell’aria e contemporaneamente provoca una depressione sulla parte posteri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ando la membrana si sposta all’indietro comprime le molecole sulla parte posteriore provocando una depressione sulla parte fron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pratica ogni altoparlante emette un duplice suono, dalla parte frontale e da quella posteri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iché un altoparlante non è in grado di riprodurre con elevata fedeltà tutte le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frequenz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mprese tra i 20 e i 20.000 Hz, si inseriscono in una cassa acustica più altoparla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==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4572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GLI ALTOPARLANT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458200" y="652788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1676520"/>
            <a:ext cx="69343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Uno di questi riproduce fedelmente la sola gamma dei bassi, gli altri le gamme di frequenze che il primo non riesce a riprodurre cioè medi e acu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Un altoparlante a larga banda, il cui diametro non supera mai i 16 cm, riesce a riprodurre una banda di frequenze molto alta che partendo da 50-100 Hz può raggiungere i 10.000-12.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rmalmente questi altoparlanti vengono usati nelle radio registratori ecc., perché con un solo altoparlante si riesce ad ottenere una discreta riproduzione son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Un altoparlante woofer ha delle notevoli dimensioni, in quanto il modello più piccolo ha un diametro di 20 cm ed il più grande di 45 c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Questo tipo di altoparlante è in grado di riprodurre fedelmente le sole frequenze comprese tra i 20 Hz e i 2.500-5.000 Hz circa, cioè i ba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Un altoparlante midrange,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le cui dimensioni possono variare da 16 a 20 cm, viene costruito per riprodurre con un ’elevata fedeltà tutte le frequenze dei medi comprese tra i 100 Hz e i 5000 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Anche questo altoparlante deve essere inserito dentro una cassa acu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===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458200" y="652788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362320" y="1752480"/>
            <a:ext cx="67816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Un altoparlante tweeter ha dimensioni ridotte e viene costruito per riprodurre con una elevata fedeltà tutte le frequenze degli acuti dai 2.000 ai 25.000 Hz ed oltre. Esso non risulta idoneo a riprodurre le frequenze dei medi e tantomeno quella dei bassi, perciò deve essere inserito dentro una cassa acustica assieme ad altri due altoparlanti. L’efficienza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degli altoparlanti rappresenta un altro fattore relativo alla potenza sonora, spesso ignorato ma molto importante (sensibilità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Essa si esprime in dB SPL (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ound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ressure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evel) o db 1w-1m. Questa misura indica la pressione sonora generata da un altoparlante con un a potenza di 1 watt e misurata ad una distanza di un metro con un microfono HiFi collegato ad un preciso fonometro. Poiché un dB è un’unità di misura logaritmica, si deve ricordare che una differenza di pochi dB corrisponde ad un elevato aumento o attenuazione del livello sonoro. Il decibe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(dB) è una misura logaritmica, e non lineare di confronto fra due grandezze. Per calcolare il guadagno in tensione bisogna moltiplicare i volt del segnale per il numero nella colonna delle tensioni in corrispondenza della riga dei dB che interessa; per calcolare l’attenuazione, invece, si divide il valore dei watt per lo stesso num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DSCF0061" descr=""/>
          <p:cNvPicPr/>
          <p:nvPr/>
        </p:nvPicPr>
        <p:blipFill>
          <a:blip r:embed="rId2"/>
          <a:stretch/>
        </p:blipFill>
        <p:spPr>
          <a:xfrm>
            <a:off x="2819520" y="2438280"/>
            <a:ext cx="5105160" cy="3829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355840" y="17524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 primi passi verso la costruzione del box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53280" y="5715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001360" y="57150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=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2355840" y="17524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’inserimento dei connettori posteriori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DSCF0062" descr=""/>
          <p:cNvPicPr/>
          <p:nvPr/>
        </p:nvPicPr>
        <p:blipFill>
          <a:blip r:embed="rId3"/>
          <a:stretch/>
        </p:blipFill>
        <p:spPr>
          <a:xfrm>
            <a:off x="2590920" y="228600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76520" y="556272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=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001360" y="57150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=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2355840" y="17524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cco l’anima interna del box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556272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&lt;=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SCF0064" descr=""/>
          <p:cNvPicPr/>
          <p:nvPr/>
        </p:nvPicPr>
        <p:blipFill>
          <a:blip r:embed="rId4"/>
          <a:stretch/>
        </p:blipFill>
        <p:spPr>
          <a:xfrm>
            <a:off x="2743200" y="23050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001360" y="57150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2355840" y="17524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l box è quasi pronto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556272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=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DSCF0065" descr=""/>
          <p:cNvPicPr/>
          <p:nvPr/>
        </p:nvPicPr>
        <p:blipFill>
          <a:blip r:embed="rId2"/>
          <a:stretch/>
        </p:blipFill>
        <p:spPr>
          <a:xfrm>
            <a:off x="2743200" y="23623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5120" y="1143000"/>
            <a:ext cx="7238880" cy="6046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Abbiamo utilizzato: Speaker Workshop software, una scheda Sound Blaster, un computer Pentium 2, 2 altoparlanti full range B&amp;C Speakers Mod. XT13 da 10 pollici 200 watt 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Abbiamo misurato l’impedenza in aria libera di entrambi gli altoparlanti, misurando in automatico tutti i parametri di Thiele e Sm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Anche se le casse erano dichiarate con le ste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aratteristiche una volta effettuate le misurazioni ci sia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accorti che in realtà non avevano i medesimi parametr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l’impedenza variava e di conseguenza anche l’escursione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ono e la frequenza, e tutti i parametri di Thiele e Sm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n seguito abbiamo misurato l’impedenza con massa aggi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(9 grammi), in modo tale da misurare un parametro importante ,il Vas. Anche con la massa aggiunta l’impedenza, l’escursione e la frequenze delle due casse erano diverse, anche se venivano date dal produttore come identiche. In quest’ultimo caso però l’impedenza, la frequenza e l’escursione del cono erano minori rispetto alle misurazioni effettuate in aria lib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38088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PROGETTAZIONE DEI BOX DI DUE CAS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532720" y="6524640"/>
            <a:ext cx="432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001360" y="57150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2355840" y="17524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’ultima levigatura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56272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=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DSCF0066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355840" y="17524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d ecco il lavoro finito!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556272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=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DSCF0084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7600" y="4724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35280" y="2852640"/>
            <a:ext cx="5203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CONFRONTO FREQUEN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CONFRONTO ESCURSI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CONFRONTO CASSA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5" action="ppaction://hlinksldjump"/>
              </a:rPr>
              <a:t>CONFRONTO CASSA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6" action="ppaction://hlinksldjump"/>
              </a:rPr>
              <a:t>CONFRONTO IMPEDEN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1773360"/>
            <a:ext cx="664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i dati ottenuti con le misurazioni precedenti e immessi da input abbiamo creato i seguenti grafi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522612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143000" y="4572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CONFRONTO FREQUENZ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7308720" y="6740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752480"/>
            <a:ext cx="335268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tilizzando il software gratuito Speaker Workshop (www.audua.com), abbiamo calcolato la curva di impedenza, tutti i parametri di Thiele e Small, ed il progetto ottimale in cassa reflex, analizzando le differenze tra i due altoparl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71640" y="188136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143000" y="4572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CONFRONTO ESCURSION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209680"/>
            <a:ext cx="22096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’ viene differenziato le differenze tra i due progetti (casse) dell’escursione dell’altoparl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143000" y="4572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CONFRONTO CASSA 1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981080"/>
            <a:ext cx="289548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grafico si puo’ vedere in nero la misura dell’impedenza misurata tramite il programma e la scheda sonora Sound Blaster 16, e in rosso la simulazione in base ai parametri calcolati, essendoci stretta correlazione, la misura e’ corret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352680" y="1752480"/>
            <a:ext cx="5540400" cy="4154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143000" y="4572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CONFRONTO CASSA 2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981080"/>
            <a:ext cx="259092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essa cosa per la cassa 2, infatti noi abbiamo progettato 2 sistemi calcolati, 1 per cassa, dato che ogni altoparlante, per via delle tolleranze di costruzione, possono risultare a volte molto differ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5576760" cy="4183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143000" y="4572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CONFRONTO IMPEDENZ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812000" y="6524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654200"/>
            <a:ext cx="25146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po aver scelto il caricamento piu’ opportuno, abbiamo simulato l’impedenza in cassa con reflex, si puo’ notare un secondo picco dato dalla frequenza di risonanza dell’aper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523880"/>
            <a:ext cx="7010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l suono può essere interpretato sia come fenomeno ondulatorio nell’aria e in altri mezzi elastici (stimolo), sia come eccitazione del meccanismo uditivo che dà luogo alla percezione acustica (sensazione). La scelta di una o dell’altro punto di vista dipende dal punto di approccio: fisico o psicofisico. È opportuno introdurre alcuni concetti fondamentali. L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frequenz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è una caratteristica delle onde periodiche ed è misurata in hertz (Hz) o cicli al secondo. L’orecchio percepisce un’altezza diversa quando riceve un suono pacato o uno forte della stessa frequenza, con l’aumentare dell’intensità, l’altezza di una nota a bassa frequenza scende, mentre quella di una nota ad alta frequenza sale. Frequenza e altezza di un suono non sono perciò la stessa cosa, anche se presentano analogie: ad ogni valore della prima (grandezza fisica) possono corrispondere più valore della seconda (grandezza psicofisica). Lo stesso lo si può dire per intensità sonore e sensazione sonora, fra la forma d’onda e la qualità percep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4572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NTRODUZIONE AL SUON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812000" y="6524640"/>
            <a:ext cx="5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093080" y="6524640"/>
            <a:ext cx="57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 rot="5400000">
            <a:off x="-1031040" y="1926360"/>
            <a:ext cx="276228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CLA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 rot="5400000">
            <a:off x="611280" y="2283480"/>
            <a:ext cx="1695600" cy="633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3B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0:04:28Z</dcterms:created>
  <dc:creator>I.T.I.S. "G.FERRARIS"</dc:creator>
  <dc:description/>
  <dc:language>en-US</dc:language>
  <cp:lastModifiedBy>pino</cp:lastModifiedBy>
  <dcterms:modified xsi:type="dcterms:W3CDTF">2002-11-05T09:57:52Z</dcterms:modified>
  <cp:revision>29</cp:revision>
  <dc:subject/>
  <dc:title>Nessun titolo diapositiva</dc:title>
</cp:coreProperties>
</file>